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5E2D-142C-4531-AC02-3D2DB37EE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35A7-9F36-48B7-B737-BF46F9D1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8CF0-CC0F-435A-9C74-840F3907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9669-A64D-4291-AFE8-274CA741F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CA4B-8FDA-478E-ACA9-A2CAD349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8655-5FF7-44DB-B59C-FE25F19C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1477-5D6F-44E9-97E2-FE6A09AC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372F-1AA5-4707-B289-A675B4D2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C2E2-B91C-4636-9B50-768B71F9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9564-6494-46DF-9D96-A661E2CC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8681-842F-4A65-A677-3F70D4E6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1786-7230-4DFC-A90D-9C5BDCF6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0420-8005-4C54-8E57-368474BEC16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cosystema.ru/08nature/moss/index.htm" TargetMode="External"/><Relationship Id="rId2" Type="http://schemas.openxmlformats.org/officeDocument/2006/relationships/hyperlink" Target="http://www.ecosystema.ru/08nature/moss/index.htm" TargetMode="External"/><Relationship Id="rId3" Type="http://schemas.openxmlformats.org/officeDocument/2006/relationships/hyperlink" Target="http://www.svprim.ru/red/bashmachok.shtml" TargetMode="External"/><Relationship Id="rId4" Type="http://schemas.openxmlformats.org/officeDocument/2006/relationships/hyperlink" Target="http://www.liveinternet.ru/users/5566281/post322333296/" TargetMode="External"/><Relationship Id="rId5" Type="http://schemas.openxmlformats.org/officeDocument/2006/relationships/hyperlink" Target="http://bylanovo.ru/2012/04/zhenshen---zhenshen-(gvlavrenova).html" TargetMode="External"/><Relationship Id="rId6" Type="http://schemas.openxmlformats.org/officeDocument/2006/relationships/hyperlink" Target="http://www.svprim.ru/tiger/cats/tigr.shtml" TargetMode="External"/><Relationship Id="rId7" Type="http://schemas.openxmlformats.org/officeDocument/2006/relationships/hyperlink" Target="http://khaliman.org.ua/utki-zemlyanie/peganka-chochlataya.html" TargetMode="External"/><Relationship Id="rId8" Type="http://schemas.openxmlformats.org/officeDocument/2006/relationships/hyperlink" Target="http://tent-palatka.ru/news.htm-id=1444.htm" TargetMode="External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cosystema.ru/08nature/moss/index.htm" TargetMode="External"/><Relationship Id="rId2" Type="http://schemas.openxmlformats.org/officeDocument/2006/relationships/hyperlink" Target="http://www.ecosystema.ru/08nature/moss/index.htm" TargetMode="External"/><Relationship Id="rId3" Type="http://schemas.openxmlformats.org/officeDocument/2006/relationships/hyperlink" Target="http://www.svprim.ru/red/bashmachok.shtml" TargetMode="External"/><Relationship Id="rId4" Type="http://schemas.openxmlformats.org/officeDocument/2006/relationships/hyperlink" Target="http://www.liveinternet.ru/users/5566281/post322333296/" TargetMode="External"/><Relationship Id="rId5" Type="http://schemas.openxmlformats.org/officeDocument/2006/relationships/hyperlink" Target="http://bylanovo.ru/2012/04/zhenshen---zhenshen-(gvlavrenova).html" TargetMode="External"/><Relationship Id="rId6" Type="http://schemas.openxmlformats.org/officeDocument/2006/relationships/hyperlink" Target="http://www.svprim.ru/tiger/cats/tigr.shtml" TargetMode="Externa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3"/>
          <p:cNvSpPr/>
          <p:nvPr/>
        </p:nvSpPr>
        <p:spPr>
          <a:xfrm>
            <a:off x="28440" y="189000"/>
            <a:ext cx="8640720" cy="6577920"/>
          </a:xfrm>
          <a:prstGeom prst="rect">
            <a:avLst/>
          </a:prstGeom>
          <a:solidFill>
            <a:srgbClr val="e4e7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БОУ ООШ д. Старое Мелк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зентация на те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ЛОРА и ФАУНА Дальнего Вост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аботала: учитель географии Бычкова Т.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7" name="TextBox 7"/>
          <p:cNvSpPr/>
          <p:nvPr/>
        </p:nvSpPr>
        <p:spPr>
          <a:xfrm>
            <a:off x="4572000" y="78588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зёра Дальнего Вост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5715000" y="6021360"/>
            <a:ext cx="31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зеро Ха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428760" y="285840"/>
            <a:ext cx="350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улканическое озе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0"/>
          <p:cNvSpPr/>
          <p:nvPr/>
        </p:nvSpPr>
        <p:spPr>
          <a:xfrm>
            <a:off x="214200" y="3429000"/>
            <a:ext cx="328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дниковые озё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0" y="0"/>
          <a:ext cx="9144000" cy="6669000"/>
        </p:xfrm>
        <a:graphic>
          <a:graphicData uri="http://schemas.openxmlformats.org/drawingml/2006/table">
            <a:tbl>
              <a:tblPr/>
              <a:tblGrid>
                <a:gridCol w="950760"/>
                <a:gridCol w="917640"/>
                <a:gridCol w="1057320"/>
                <a:gridCol w="916200"/>
                <a:gridCol w="1058760"/>
                <a:gridCol w="633240"/>
                <a:gridCol w="635040"/>
                <a:gridCol w="692280"/>
                <a:gridCol w="1049400"/>
                <a:gridCol w="593640"/>
                <a:gridCol w="639720"/>
              </a:tblGrid>
              <a:tr h="341280"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Состав Д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ЭГ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Тектоническое строение и рельеф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Клима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нутренние в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Органический ми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иродные ресурс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Населе-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Чукотск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нагорь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/о Камчат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иморь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8152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морский, Камчатский и Хабаровский края, Амурская, Магаданская, Сахалинская области, Еврейская автономная область, Чукотский автономный окру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брежное положение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ольшая вытянутость (4500 км) с северо-востока на юго-запад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составе имеет материковую, островную,         полуостровную част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верные тер-рии находятся за полярным кругом, а южные - на широте Итали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ходится на стыке двух литосферных плит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улканы, землетрясения, гейзеры, горячие источники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ширные нагорья на севере и горные хребты на юге  чередуются низменными равнинами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носится к области кайнозойской складчатости.    (молодая, которая сопровождается тектоническими движениями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лияние Тихого океана.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уссон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ветер, меняющий направление 2 раза в год, зимой муссон дует с суши на океан, а летом с океана на сушу. Климат очень своеобразный (холод- зимой, обилие влаги –летом)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оварь- что такое муссон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ик с 244 рис. 71 рассмотрет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устая речная сеть( большое кол-во осадков и малое испарение).Реки горные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ая крупная река Дальнего Востока –Амур .Река пограничная. По территории несут свои воды Лена, Колыма, Индигирка, Зея .Самое крупное озеро на Дальнем Востоке- Ханка(4190 кв.к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2"/>
          <p:cNvSpPr/>
          <p:nvPr/>
        </p:nvSpPr>
        <p:spPr>
          <a:xfrm>
            <a:off x="324000" y="333360"/>
            <a:ext cx="871200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уна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емлетрясения и извержения вулкан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ейзеры, Камчат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уссон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 материка, с мор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ожд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мур, Зея, Бурея, Уссур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Захар\Мои документы\Мои рисунки\Новый рисунок (9).jpg"/>
          <p:cNvPicPr/>
          <p:nvPr/>
        </p:nvPicPr>
        <p:blipFill>
          <a:blip r:embed="rId1"/>
          <a:stretch/>
        </p:blipFill>
        <p:spPr>
          <a:xfrm>
            <a:off x="-468360" y="-243000"/>
            <a:ext cx="9734760" cy="7315200"/>
          </a:xfrm>
          <a:prstGeom prst="rect">
            <a:avLst/>
          </a:prstGeom>
          <a:ln w="0">
            <a:noFill/>
          </a:ln>
        </p:spPr>
      </p:pic>
      <p:sp>
        <p:nvSpPr>
          <p:cNvPr id="84" name="TextBox 6"/>
          <p:cNvSpPr/>
          <p:nvPr/>
        </p:nvSpPr>
        <p:spPr>
          <a:xfrm>
            <a:off x="6357960" y="627372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р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4143240" y="6273720"/>
            <a:ext cx="192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урунд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3"/>
          <p:cNvSpPr/>
          <p:nvPr/>
        </p:nvSpPr>
        <p:spPr>
          <a:xfrm>
            <a:off x="1619280" y="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бар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285840" y="627372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б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6"/>
          <p:cNvSpPr/>
          <p:nvPr/>
        </p:nvSpPr>
        <p:spPr>
          <a:xfrm>
            <a:off x="4214880" y="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ы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9"/>
          <p:cNvSpPr/>
          <p:nvPr/>
        </p:nvSpPr>
        <p:spPr>
          <a:xfrm>
            <a:off x="7072200" y="300024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ло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0"/>
          <p:cNvSpPr/>
          <p:nvPr/>
        </p:nvSpPr>
        <p:spPr>
          <a:xfrm>
            <a:off x="142920" y="378612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е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0"/>
          <a:ext cx="9144000" cy="6669000"/>
        </p:xfrm>
        <a:graphic>
          <a:graphicData uri="http://schemas.openxmlformats.org/drawingml/2006/table">
            <a:tbl>
              <a:tblPr/>
              <a:tblGrid>
                <a:gridCol w="950760"/>
                <a:gridCol w="917640"/>
                <a:gridCol w="1057320"/>
                <a:gridCol w="916200"/>
                <a:gridCol w="1058760"/>
                <a:gridCol w="750960"/>
                <a:gridCol w="649080"/>
                <a:gridCol w="719280"/>
                <a:gridCol w="890640"/>
                <a:gridCol w="593640"/>
                <a:gridCol w="639720"/>
              </a:tblGrid>
              <a:tr h="341280"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Состав Д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ЭГ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Тектоническое строение и рельеф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Клима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нутренние в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Органический ми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иродные ресурс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Населе-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Чукотск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нагорь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/о Камчат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иморь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8152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морский, Камчатский и Хабаровский края, Амурская, Магаданская, Сахалинская области, Еврейская автономная область, Чукотский автономный окру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брежное положение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ольшая вытянутость (4500 км) с северо-востока на юго-запад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составе имеет материковую, островную,         полуостровную част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верные тер-рии находятся за полярным кругом, а южные - на широте Италии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ходится на стыке двух литосферных плит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улканы, землетрясения, гейзеры, горячие источник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ширные нагорья на севере и горные хребты на юге  чередуются низменными равнинам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носится к области кайнозойской складчатости.    (молодая, которая сопровождается тектоническими движениями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лияние Тихого океана.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уссон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ветер, меняющий направление 2 раза в год, зимой муссон дует с суши на океан, а летом с океана на сушу. Климат очень своеобразный (холод- зимой, обилие влаги –летом)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оварь- что такое муссон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ик с 244 рис. 71 рассмотрет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устая речная сеть( большое кол-во осадков и малое испарение).Реки горные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ая крупная река Дальнего Востока –Амур .Река пограничная. По территории несут свои воды Лена, Колыма, Индигирка, Зея .Самое крупное озеро на Дальнем Востоке- Ханка(4190 кв.к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молость съедобная , Городковия якутская, Багульни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лющийс, Эдельвейс Палибина, Суслик длиннохвостый, Овцебык, Северный олень, Тундровая куропатк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вражка, Тарбаган, Камнеломка ,</a:t>
                      </a:r>
                      <a:r>
                        <a:rPr b="0" lang="ru-RU" sz="1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 </a:t>
                      </a:r>
                      <a:r>
                        <a:rPr b="0" lang="ru-RU" sz="1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Мох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Лапчатка кустарниковая , Филлодоце голубая, Берингов, или берингийский баклан, Бурый медвед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Башмачок крупноцветковый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, Лотос ,</a:t>
                      </a:r>
                      <a:r>
                        <a:rPr b="0" lang="ru-RU" sz="1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 Рододендроны</a:t>
                      </a:r>
                      <a:r>
                        <a:rPr b="0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1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 Женьшень</a:t>
                      </a:r>
                      <a:r>
                        <a:rPr b="0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1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 Амурский тигр (уссурийский тигр)</a:t>
                      </a:r>
                      <a:r>
                        <a:rPr b="0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боль, Пятнистый  олень,</a:t>
                      </a:r>
                      <a:r>
                        <a:rPr b="0" lang="ru-RU" sz="1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 Пеганка хохлатая</a:t>
                      </a:r>
                      <a:r>
                        <a:rPr b="0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1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 Лесные коты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0" y="0"/>
          <a:ext cx="9144000" cy="6669000"/>
        </p:xfrm>
        <a:graphic>
          <a:graphicData uri="http://schemas.openxmlformats.org/drawingml/2006/table">
            <a:tbl>
              <a:tblPr/>
              <a:tblGrid>
                <a:gridCol w="950760"/>
                <a:gridCol w="917640"/>
                <a:gridCol w="1057320"/>
                <a:gridCol w="916200"/>
                <a:gridCol w="1058760"/>
                <a:gridCol w="750960"/>
                <a:gridCol w="649080"/>
                <a:gridCol w="719280"/>
                <a:gridCol w="890640"/>
                <a:gridCol w="593640"/>
                <a:gridCol w="639720"/>
              </a:tblGrid>
              <a:tr h="341280"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Состав Д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ЭГ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Тектоническое строение и рельеф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Клима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нутренние в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Органический ми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иродные ресурс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Населе-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Чукотск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нагорь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/о Камчат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иморь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8152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морский, Камчатский и Хабаровский края, Амурская, Магаданская, Сахалинская области, Еврейская автономная область, Чукотский автономный окру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брежное положение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ольшая вытянутость (4500 км) с северо-востока на юго-запад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составе имеет материковую, островную,         полуостровную част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верные тер-рии находятся за полярным кругом, а южные - на широте Итали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ходится на стыке двух литосферных плит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улканы, землетрясения, гейзеры, горячие источники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ширные нагорья на севере и горные хребты на юге  чередуются низменными равнинами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носится к области кайнозойской складчатости.    (молодая, которая сопровождается тектоническими движениями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лияние Тихого океана.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уссон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ветер, меняющий направление 2 раза в год, зимой муссон дует с суши на океан, а летом с океана на сушу. Климат очень своеобразный (холод- зимой, обилие влаги –летом)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оварь- что такое муссон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ик с 244 рис. 71 рассмотрет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устая речная сеть( большое кол-во осадков и малое испарение).Реки горные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ая крупная река Дальнего Востока –Амур .Река пограничная. По территории несут свои воды Лена, Колыма, Индигирка, Зея .Самое крупное озеро на Дальнем Востоке- Ханка(4190 кв.к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молость съедобная , Городковия якутская, Багульни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лющийс, Эдельвейс Палибина, Суслик длиннохвостый, Овцебык, Северный олень, Тундровая куропатк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вражка, Тарбаган, Камнеломка ,</a:t>
                      </a:r>
                      <a:r>
                        <a:rPr b="0" lang="ru-RU" sz="1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 </a:t>
                      </a:r>
                      <a:r>
                        <a:rPr b="0" lang="ru-RU" sz="1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Мох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Лапчатка кустарниковая , Филлодоце голубая, Берингов, или берингийский баклан, Бурый медвед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Башмачок крупноцветковый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, Лотос ,</a:t>
                      </a:r>
                      <a:r>
                        <a:rPr b="0" lang="ru-RU" sz="1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 Рододендроны</a:t>
                      </a:r>
                      <a:r>
                        <a:rPr b="0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1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 Женьшень</a:t>
                      </a:r>
                      <a:r>
                        <a:rPr b="0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1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 Амурский тигр (уссурийский тигр)</a:t>
                      </a:r>
                      <a:r>
                        <a:rPr b="0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боль, Пятнистый  олень,</a:t>
                      </a:r>
                      <a:r>
                        <a:rPr b="0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Пеганка хохлатая, Лесные коты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лавные золотоносные районы Росси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мышленные запасы олова и вольфрам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елезные руды, полиметаллы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юда, графит, фосфориты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менный и бурый уголь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фть и газ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идроэнергоресурсы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ыба и морепродукты – главные ресурсы район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9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7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88DA-D714-43D0-A678-F7DFF20772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52560" y="-3613320"/>
            <a:ext cx="939276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Источники иллюстр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moldv.ru/trenerskaya_predlogeniya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 ://ivs-gw2.kscnet.ru/ ivs / expeditions /2007/sheveluch-besim_01-03_2007/ index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 :// www.kruzenshtern.tvzvezda.ru /?id=872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weblancer.net/users/S3Dk/portfolio/123660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 :// www.photoforum.ru / photo /193892/ index.ru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limonnik.ru/rus_pages/library/plant_info/phellodendron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otki.yandex.ru/users/grishin333/view/29490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prosecutor.ru/history/regio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1vet.ru/MIR ZHIVOTNIH/rekord cherepahi.ph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sokino.r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9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раграф 59, вопросы в конце параграф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7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D0D1-9AA7-4BA1-BDB3-44C1D147C6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4572000" y="333360"/>
            <a:ext cx="4229280" cy="521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Text Box 6"/>
          <p:cNvSpPr/>
          <p:nvPr/>
        </p:nvSpPr>
        <p:spPr>
          <a:xfrm>
            <a:off x="324000" y="333360"/>
            <a:ext cx="4103640" cy="459720"/>
          </a:xfrm>
          <a:prstGeom prst="rect">
            <a:avLst/>
          </a:prstGeom>
          <a:solidFill>
            <a:srgbClr val="e6e9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став Дальнего Восто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50920" y="1773360"/>
            <a:ext cx="4103640" cy="825480"/>
          </a:xfrm>
          <a:prstGeom prst="rect">
            <a:avLst/>
          </a:prstGeom>
          <a:solidFill>
            <a:srgbClr val="a6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Чукотский автономный окр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250920" y="2708280"/>
            <a:ext cx="4103640" cy="459720"/>
          </a:xfrm>
          <a:prstGeom prst="rect">
            <a:avLst/>
          </a:prstGeom>
          <a:solidFill>
            <a:srgbClr val="fdfd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Камчатский кр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50920" y="3357720"/>
            <a:ext cx="4103640" cy="459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Магадан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250920" y="4005360"/>
            <a:ext cx="4103640" cy="459720"/>
          </a:xfrm>
          <a:prstGeom prst="rect">
            <a:avLst/>
          </a:prstGeom>
          <a:solidFill>
            <a:srgbClr val="89eb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Хабаровский кр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79280" y="4653000"/>
            <a:ext cx="4103640" cy="459720"/>
          </a:xfrm>
          <a:prstGeom prst="rect">
            <a:avLst/>
          </a:prstGeom>
          <a:solidFill>
            <a:srgbClr val="7c97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Амур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179280" y="5300640"/>
            <a:ext cx="4103640" cy="459720"/>
          </a:xfrm>
          <a:prstGeom prst="rect">
            <a:avLst/>
          </a:prstGeom>
          <a:solidFill>
            <a:srgbClr val="5054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Приморский кр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250920" y="6021360"/>
            <a:ext cx="4103640" cy="459720"/>
          </a:xfrm>
          <a:prstGeom prst="rect">
            <a:avLst/>
          </a:prstGeom>
          <a:solidFill>
            <a:srgbClr val="e4e7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 Сахалин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7164360" y="9079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8101080" y="206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7093080" y="206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6804000" y="3357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6516720" y="429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7596360" y="4941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7812000" y="386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"/>
          <p:cNvSpPr/>
          <p:nvPr/>
        </p:nvSpPr>
        <p:spPr>
          <a:xfrm flipV="1">
            <a:off x="6877080" y="4868640"/>
            <a:ext cx="431640" cy="10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4716360" y="602136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врейская автономн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107e7eafc0793d25ea376b0908ccc13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250920" y="381960"/>
            <a:ext cx="6678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склонам сопок тропы вьются кру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м, в буйных зарослях душистых тра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чая ветвистая ли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ревья обвивает как уд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ркают ильмы, ольхи жмутся к ив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там, где кедры выстроились в ря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усто-зеленый, с полевым отлив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рляндами, прижавшись к хвойным грив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т-нет, да глянет дикий виногр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ркуют горлицы, их резким кри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молвная вокруг колышется тайг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на заре по крутосклонным пи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лькнут то тигр, то рысь, то кабарг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Глуша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9280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                                        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19.03.2015г.</a:t>
            </a:r>
            <a:br>
              <a:rPr sz="4400"/>
            </a:b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Урок –исследования</a:t>
            </a:r>
            <a:br>
              <a:rPr sz="4400"/>
            </a:br>
            <a:r>
              <a:rPr b="0" lang="ru-RU" sz="4400" spc="-1" strike="noStrike" u="sng">
                <a:solidFill>
                  <a:srgbClr val="953735"/>
                </a:solidFill>
                <a:uFillTx/>
                <a:latin typeface="Calibri"/>
              </a:rPr>
              <a:t>Тема:</a:t>
            </a:r>
            <a:br>
              <a:rPr sz="4400"/>
            </a:b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«ПРИРОДА ДАЛЬНЕГО ВОСТОКА»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Учитель: Бычкова Т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омер слайда 7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6D63-17A5-46BA-8FAC-808B45FD8B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13913"/>
          <p:cNvPicPr/>
          <p:nvPr/>
        </p:nvPicPr>
        <p:blipFill>
          <a:blip r:embed="rId1"/>
          <a:stretch/>
        </p:blipFill>
        <p:spPr>
          <a:xfrm rot="21157800">
            <a:off x="163080" y="154080"/>
            <a:ext cx="2973600" cy="1935000"/>
          </a:xfrm>
          <a:prstGeom prst="rect">
            <a:avLst/>
          </a:prstGeom>
          <a:ln w="19080">
            <a:solidFill>
              <a:srgbClr val="c0504d"/>
            </a:solidFill>
            <a:miter/>
          </a:ln>
        </p:spPr>
      </p:pic>
      <p:pic>
        <p:nvPicPr>
          <p:cNvPr id="65" name="Picture 9" descr="competition_42862"/>
          <p:cNvPicPr/>
          <p:nvPr/>
        </p:nvPicPr>
        <p:blipFill>
          <a:blip r:embed="rId2"/>
          <a:stretch/>
        </p:blipFill>
        <p:spPr>
          <a:xfrm rot="20590200">
            <a:off x="711360" y="4487400"/>
            <a:ext cx="3724200" cy="1792440"/>
          </a:xfrm>
          <a:prstGeom prst="rect">
            <a:avLst/>
          </a:prstGeom>
          <a:ln w="1908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92800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Цель урок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ть особенност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роды Дальневосточного региона РФ. </a:t>
            </a:r>
            <a:br>
              <a:rPr sz="2400"/>
            </a:b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Задачи урока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формировать представления и знания об особенностях природы Дальнего Востока, показать уникальность природы этого регион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развивать речевую активность, умение самостоятельно добывать знания из различных источников информаци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воспитывать патриотизм, чувство прекрасного, любовь к природе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Номер слайда 7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73A3-A088-420C-B1C0-3810FD33B0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0"/>
          <a:ext cx="9144000" cy="6669000"/>
        </p:xfrm>
        <a:graphic>
          <a:graphicData uri="http://schemas.openxmlformats.org/drawingml/2006/table">
            <a:tbl>
              <a:tblPr/>
              <a:tblGrid>
                <a:gridCol w="950760"/>
                <a:gridCol w="917640"/>
                <a:gridCol w="1057320"/>
                <a:gridCol w="916200"/>
                <a:gridCol w="1058760"/>
                <a:gridCol w="633240"/>
                <a:gridCol w="635040"/>
                <a:gridCol w="692280"/>
                <a:gridCol w="1049400"/>
                <a:gridCol w="593640"/>
                <a:gridCol w="639720"/>
              </a:tblGrid>
              <a:tr h="341280"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Состав Д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ЭГ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Тектоническое строение и рельеф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Клима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нутренние в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Органический ми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иродные ресурс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Населе-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Чукотск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нагорь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/о Камчат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иморь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8152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морский, Камчатский и Хабаровский края, Амурская, Магаданская, Сахалинская области, Еврейская автономная область, Чукотский автономный окру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брежное положение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ольшая вытянутость (4500 км) с северо-востока на юго-запад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составе имеет материковую, островную,         полуостровную част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верные тер-рии находятся за полярным кругом, а южные - на широте Итали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Documents and Settings\Захар\Мои документы\Мои рисунки\Новый рисунок (2).jpg"/>
          <p:cNvPicPr/>
          <p:nvPr/>
        </p:nvPicPr>
        <p:blipFill>
          <a:blip r:embed="rId1"/>
          <a:stretch/>
        </p:blipFill>
        <p:spPr>
          <a:xfrm>
            <a:off x="-252360" y="-243000"/>
            <a:ext cx="9629640" cy="731520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5286240" y="571680"/>
            <a:ext cx="385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ейзеры Камча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9" descr="start"/>
          <p:cNvPicPr/>
          <p:nvPr/>
        </p:nvPicPr>
        <p:blipFill>
          <a:blip r:embed="rId1"/>
          <a:stretch/>
        </p:blipFill>
        <p:spPr>
          <a:xfrm>
            <a:off x="4356000" y="2852640"/>
            <a:ext cx="4788000" cy="4005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2"/>
          <p:cNvPicPr/>
          <p:nvPr/>
        </p:nvPicPr>
        <p:blipFill>
          <a:blip r:embed="rId2"/>
          <a:stretch/>
        </p:blipFill>
        <p:spPr>
          <a:xfrm>
            <a:off x="0" y="0"/>
            <a:ext cx="5219640" cy="3716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435280" y="228240"/>
            <a:ext cx="3708360" cy="16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Муссонная циркуляция атмосфе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Documents and Settings\Захар\Мои документы\Мои рисунки\Новый рисунок (2)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4214880" y="1071720"/>
            <a:ext cx="4929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ки Дальнего Вост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13:29:02Z</dcterms:created>
  <dc:creator>1</dc:creator>
  <dc:description/>
  <dc:language>en-US</dc:language>
  <cp:lastModifiedBy>Home</cp:lastModifiedBy>
  <dcterms:modified xsi:type="dcterms:W3CDTF">2019-03-05T19:15:57Z</dcterms:modified>
  <cp:revision>161</cp:revision>
  <dc:subject/>
  <dc:title>Санкт-Петербург Северная Столица</dc:title>
</cp:coreProperties>
</file>